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12E1-76D3-4F16-B37B-EF1D3CAF83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1EF-8ACC-4642-BEFA-CF2B3497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644-7221-4C57-95BF-ED1BDF80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2D1-387A-4E0D-B53B-F8E2B544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757-B457-43D6-9546-F77C5ED8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7B5-6173-4E3B-A069-3A1DAD15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29E-0298-42D9-ADF4-A03E524A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EC1-C4BE-427C-B588-ED3938B3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BD3-CAD5-466D-BAE7-7F4A9CC5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CB7-39F4-4F18-B318-692C2525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7BA-73A8-496A-9A7B-594713EB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D42-6B93-4922-8202-64ACF35A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176-B072-4EB7-8EA2-564D26C6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D55F-B924-477A-B2F6-98C769F7B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3760" y="304200"/>
            <a:ext cx="496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F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5334120" y="304920"/>
          <a:ext cx="81108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811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143000" y="1523880"/>
          <a:ext cx="382572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825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8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124680" y="2514600"/>
          <a:ext cx="85716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4680" y="2514600"/>
                    <a:ext cx="857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538200" y="304200"/>
            <a:ext cx="74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838440" y="1143000"/>
            <a:ext cx="3726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027440" y="175320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362320" y="1828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133720" y="2362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give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26400" y="3581280"/>
            <a:ext cx="4182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040040" y="419148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90512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tract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752480" y="48006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sign of the lar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8"/>
          <p:cNvGraphicFramePr/>
          <p:nvPr/>
        </p:nvGraphicFramePr>
        <p:xfrm>
          <a:off x="685800" y="1371600"/>
          <a:ext cx="129528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295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3276720" y="1295280"/>
          <a:ext cx="160020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295280"/>
                    <a:ext cx="1600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6248520" y="1295280"/>
          <a:ext cx="12589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295280"/>
                    <a:ext cx="1258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230400" y="13708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19520" y="7610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5000" y="7614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088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the s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04812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5867280" y="175248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5"/>
          <p:cNvGraphicFramePr/>
          <p:nvPr/>
        </p:nvGraphicFramePr>
        <p:xfrm>
          <a:off x="762120" y="2209680"/>
          <a:ext cx="10666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209680"/>
                    <a:ext cx="106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3657600" y="2133720"/>
          <a:ext cx="77616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133720"/>
                    <a:ext cx="776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6726240" y="2033640"/>
          <a:ext cx="4366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26240" y="2033640"/>
                    <a:ext cx="4366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8"/>
          <p:cNvSpPr/>
          <p:nvPr/>
        </p:nvSpPr>
        <p:spPr>
          <a:xfrm>
            <a:off x="384480" y="3832920"/>
            <a:ext cx="434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28"/>
          <p:cNvGraphicFramePr/>
          <p:nvPr/>
        </p:nvGraphicFramePr>
        <p:xfrm>
          <a:off x="1001880" y="4572000"/>
          <a:ext cx="142704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1880" y="4572000"/>
                    <a:ext cx="14270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29"/>
          <p:cNvGraphicFramePr/>
          <p:nvPr/>
        </p:nvGraphicFramePr>
        <p:xfrm>
          <a:off x="3657600" y="4495680"/>
          <a:ext cx="1631880" cy="62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7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495680"/>
                    <a:ext cx="1631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30"/>
          <p:cNvGraphicFramePr/>
          <p:nvPr/>
        </p:nvGraphicFramePr>
        <p:xfrm>
          <a:off x="6532560" y="4495680"/>
          <a:ext cx="14526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9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4495680"/>
                    <a:ext cx="1452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31"/>
          <p:cNvSpPr/>
          <p:nvPr/>
        </p:nvSpPr>
        <p:spPr>
          <a:xfrm>
            <a:off x="611280" y="45712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3124080" y="403740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6019920" y="39618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4"/>
          <p:cNvGraphicFramePr/>
          <p:nvPr/>
        </p:nvGraphicFramePr>
        <p:xfrm>
          <a:off x="1295280" y="5257800"/>
          <a:ext cx="914400" cy="573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4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5"/>
          <p:cNvGraphicFramePr/>
          <p:nvPr/>
        </p:nvGraphicFramePr>
        <p:xfrm>
          <a:off x="4038480" y="5257800"/>
          <a:ext cx="914400" cy="57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6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6"/>
          <p:cNvGraphicFramePr/>
          <p:nvPr/>
        </p:nvGraphicFramePr>
        <p:xfrm>
          <a:off x="7126200" y="5257800"/>
          <a:ext cx="374760" cy="573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8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26200" y="5257800"/>
                    <a:ext cx="374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523880" y="1600200"/>
          <a:ext cx="13208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1320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6"/>
          <p:cNvGraphicFramePr/>
          <p:nvPr/>
        </p:nvGraphicFramePr>
        <p:xfrm>
          <a:off x="5791320" y="1201680"/>
          <a:ext cx="1600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201680"/>
                    <a:ext cx="1600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1371600" y="4243320"/>
          <a:ext cx="198108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243320"/>
                    <a:ext cx="19810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11"/>
          <p:cNvGraphicFramePr/>
          <p:nvPr/>
        </p:nvGraphicFramePr>
        <p:xfrm>
          <a:off x="6019920" y="4114800"/>
          <a:ext cx="138420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114800"/>
                    <a:ext cx="1384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4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8"/>
          <p:cNvGraphicFramePr/>
          <p:nvPr/>
        </p:nvGraphicFramePr>
        <p:xfrm>
          <a:off x="990720" y="2362320"/>
          <a:ext cx="211428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362320"/>
                    <a:ext cx="2114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1"/>
          <p:cNvSpPr/>
          <p:nvPr/>
        </p:nvSpPr>
        <p:spPr>
          <a:xfrm>
            <a:off x="1523880" y="2971800"/>
            <a:ext cx="1295640" cy="6094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2"/>
          <p:cNvGraphicFramePr/>
          <p:nvPr/>
        </p:nvGraphicFramePr>
        <p:xfrm>
          <a:off x="5486400" y="2209680"/>
          <a:ext cx="193032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209680"/>
                    <a:ext cx="19303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23"/>
          <p:cNvSpPr/>
          <p:nvPr/>
        </p:nvSpPr>
        <p:spPr>
          <a:xfrm>
            <a:off x="6019920" y="3124080"/>
            <a:ext cx="129528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4"/>
          <p:cNvGraphicFramePr/>
          <p:nvPr/>
        </p:nvGraphicFramePr>
        <p:xfrm>
          <a:off x="6248520" y="3200400"/>
          <a:ext cx="71100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3200400"/>
                    <a:ext cx="7110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5"/>
          <p:cNvGraphicFramePr/>
          <p:nvPr/>
        </p:nvGraphicFramePr>
        <p:xfrm>
          <a:off x="1143000" y="4952880"/>
          <a:ext cx="230040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4952880"/>
                    <a:ext cx="2300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26"/>
          <p:cNvSpPr/>
          <p:nvPr/>
        </p:nvSpPr>
        <p:spPr>
          <a:xfrm>
            <a:off x="1523880" y="5486400"/>
            <a:ext cx="1600200" cy="838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-12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27"/>
          <p:cNvGraphicFramePr/>
          <p:nvPr/>
        </p:nvGraphicFramePr>
        <p:xfrm>
          <a:off x="5867280" y="4876920"/>
          <a:ext cx="169236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876920"/>
                    <a:ext cx="1692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28"/>
          <p:cNvSpPr/>
          <p:nvPr/>
        </p:nvSpPr>
        <p:spPr>
          <a:xfrm>
            <a:off x="6095880" y="5638680"/>
            <a:ext cx="129564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9"/>
          <p:cNvGraphicFramePr/>
          <p:nvPr/>
        </p:nvGraphicFramePr>
        <p:xfrm>
          <a:off x="6553080" y="5638680"/>
          <a:ext cx="341280" cy="88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638680"/>
                    <a:ext cx="3412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056320" y="304560"/>
            <a:ext cx="443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y these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1628640" y="1600200"/>
          <a:ext cx="110988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600200"/>
                    <a:ext cx="1109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5918040" y="1201680"/>
          <a:ext cx="13464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8040" y="1201680"/>
                    <a:ext cx="1346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1386000" y="4243320"/>
          <a:ext cx="181440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6000" y="4243320"/>
                    <a:ext cx="18144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1"/>
          <p:cNvGraphicFramePr/>
          <p:nvPr/>
        </p:nvGraphicFramePr>
        <p:xfrm>
          <a:off x="5840280" y="4073400"/>
          <a:ext cx="174492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73400"/>
                    <a:ext cx="1744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2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7"/>
          <p:cNvGraphicFramePr/>
          <p:nvPr/>
        </p:nvGraphicFramePr>
        <p:xfrm>
          <a:off x="6095880" y="2133720"/>
          <a:ext cx="887400" cy="14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133720"/>
                    <a:ext cx="887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2"/>
          <p:cNvGraphicFramePr/>
          <p:nvPr/>
        </p:nvGraphicFramePr>
        <p:xfrm>
          <a:off x="6172200" y="5257800"/>
          <a:ext cx="117936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257800"/>
                    <a:ext cx="1179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3"/>
          <p:cNvGraphicFramePr/>
          <p:nvPr/>
        </p:nvGraphicFramePr>
        <p:xfrm>
          <a:off x="1295280" y="2209680"/>
          <a:ext cx="1371600" cy="76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2209680"/>
                    <a:ext cx="13716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4"/>
          <p:cNvGraphicFramePr/>
          <p:nvPr/>
        </p:nvGraphicFramePr>
        <p:xfrm>
          <a:off x="1689120" y="5197320"/>
          <a:ext cx="1166760" cy="65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9120" y="5197320"/>
                    <a:ext cx="11667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62120" y="532800"/>
            <a:ext cx="786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gebra tiles can be used to add or subtrac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62520" y="1447920"/>
          <a:ext cx="44193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4419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6"/>
          <p:cNvGraphicFramePr/>
          <p:nvPr/>
        </p:nvGraphicFramePr>
        <p:xfrm>
          <a:off x="3733920" y="1447920"/>
          <a:ext cx="48006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47920"/>
                    <a:ext cx="4800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7"/>
          <p:cNvSpPr/>
          <p:nvPr/>
        </p:nvSpPr>
        <p:spPr>
          <a:xfrm>
            <a:off x="155520" y="1447200"/>
            <a:ext cx="366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44920" y="3656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"/>
          <p:cNvGraphicFramePr/>
          <p:nvPr/>
        </p:nvGraphicFramePr>
        <p:xfrm>
          <a:off x="1219320" y="2895480"/>
          <a:ext cx="12427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1242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3922560" y="2895480"/>
          <a:ext cx="3659400" cy="172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2895480"/>
                    <a:ext cx="36594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20" y="42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4"/>
          <p:cNvGraphicFramePr/>
          <p:nvPr/>
        </p:nvGraphicFramePr>
        <p:xfrm>
          <a:off x="7543800" y="2819520"/>
          <a:ext cx="838080" cy="68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819520"/>
                    <a:ext cx="8380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5"/>
          <p:cNvGraphicFramePr/>
          <p:nvPr/>
        </p:nvGraphicFramePr>
        <p:xfrm>
          <a:off x="6705720" y="3936960"/>
          <a:ext cx="838080" cy="73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3936960"/>
                    <a:ext cx="838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10920" y="327960"/>
            <a:ext cx="192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4267080" y="1295280"/>
          <a:ext cx="8384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838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8600" y="2057400"/>
          <a:ext cx="449568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057400"/>
                    <a:ext cx="44956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605160" y="13705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229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0"/>
          <p:cNvGraphicFramePr/>
          <p:nvPr/>
        </p:nvGraphicFramePr>
        <p:xfrm>
          <a:off x="5181480" y="1828800"/>
          <a:ext cx="20764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828800"/>
                    <a:ext cx="2076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1"/>
          <p:cNvSpPr/>
          <p:nvPr/>
        </p:nvSpPr>
        <p:spPr>
          <a:xfrm>
            <a:off x="69375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8001000" y="1905120"/>
          <a:ext cx="5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1905120"/>
                    <a:ext cx="5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4"/>
          <p:cNvGraphicFramePr/>
          <p:nvPr/>
        </p:nvGraphicFramePr>
        <p:xfrm>
          <a:off x="4495680" y="3886200"/>
          <a:ext cx="152424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3886200"/>
                    <a:ext cx="1524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3"/>
          <p:cNvGraphicFramePr/>
          <p:nvPr/>
        </p:nvGraphicFramePr>
        <p:xfrm>
          <a:off x="228600" y="4648320"/>
          <a:ext cx="460836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4648320"/>
                    <a:ext cx="4608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15"/>
          <p:cNvSpPr/>
          <p:nvPr/>
        </p:nvSpPr>
        <p:spPr>
          <a:xfrm>
            <a:off x="528840" y="39614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9568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5181480" y="4495680"/>
          <a:ext cx="1905120" cy="106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495680"/>
                    <a:ext cx="19051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9"/>
          <p:cNvSpPr/>
          <p:nvPr/>
        </p:nvSpPr>
        <p:spPr>
          <a:xfrm>
            <a:off x="670572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0"/>
          <p:cNvGraphicFramePr/>
          <p:nvPr/>
        </p:nvGraphicFramePr>
        <p:xfrm>
          <a:off x="7543800" y="4572000"/>
          <a:ext cx="950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4572000"/>
                    <a:ext cx="950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28600" y="1005120"/>
            <a:ext cx="8610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tral pairs have a value of _____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086600" y="1143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371600" y="2895480"/>
          <a:ext cx="33526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3526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5029200" y="243756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28954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4960" y="4564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152316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5562720" y="1447920"/>
          <a:ext cx="137160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13716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7"/>
          <p:cNvSpPr/>
          <p:nvPr/>
        </p:nvSpPr>
        <p:spPr>
          <a:xfrm>
            <a:off x="1068120" y="2003400"/>
            <a:ext cx="545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1371600" y="2590920"/>
          <a:ext cx="736560" cy="36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7365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1"/>
          <p:cNvSpPr/>
          <p:nvPr/>
        </p:nvSpPr>
        <p:spPr>
          <a:xfrm>
            <a:off x="2212200" y="4190400"/>
            <a:ext cx="45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0"/>
          <p:cNvGraphicFramePr/>
          <p:nvPr/>
        </p:nvGraphicFramePr>
        <p:xfrm>
          <a:off x="2666880" y="2590920"/>
          <a:ext cx="698760" cy="37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90920"/>
                    <a:ext cx="698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2"/>
          <p:cNvSpPr/>
          <p:nvPr/>
        </p:nvSpPr>
        <p:spPr>
          <a:xfrm>
            <a:off x="2745360" y="4190400"/>
            <a:ext cx="310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11430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143000" y="35053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1143000" y="41911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6"/>
          <p:cNvGraphicFramePr/>
          <p:nvPr/>
        </p:nvGraphicFramePr>
        <p:xfrm>
          <a:off x="1371600" y="4800600"/>
          <a:ext cx="770040" cy="37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800600"/>
                    <a:ext cx="7700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7"/>
          <p:cNvGraphicFramePr/>
          <p:nvPr/>
        </p:nvGraphicFramePr>
        <p:xfrm>
          <a:off x="4267080" y="3505320"/>
          <a:ext cx="735120" cy="37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505320"/>
                    <a:ext cx="7351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6019920" y="4114800"/>
          <a:ext cx="76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4114800"/>
                    <a:ext cx="76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5607E-006 L 0.31667 -0.18867 E">
                                      <p:cBhvr>
                                        <p:cTn id="1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07440" y="303840"/>
            <a:ext cx="440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 Use algebra tiles to represen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48320" y="228600"/>
          <a:ext cx="12427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1242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36400" y="837360"/>
            <a:ext cx="50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838080" y="1981080"/>
          <a:ext cx="155736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81080"/>
                    <a:ext cx="1557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2438280" y="3504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345200" y="35046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380880" y="2057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457200" y="2590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04920" y="327672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28600" y="3886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838080" y="4419720"/>
          <a:ext cx="587520" cy="35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9720"/>
                    <a:ext cx="587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00400" y="3048120"/>
          <a:ext cx="636480" cy="40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048120"/>
                    <a:ext cx="6364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9"/>
          <p:cNvGraphicFramePr/>
          <p:nvPr/>
        </p:nvGraphicFramePr>
        <p:xfrm>
          <a:off x="4800600" y="3429000"/>
          <a:ext cx="91440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429000"/>
                    <a:ext cx="914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8.55491E-006 L 0.25834 -0.19976 E">
                                      <p:cBhvr>
                                        <p:cTn id="1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257800" y="304920"/>
          <a:ext cx="11145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04920"/>
                    <a:ext cx="1114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762120" y="1752480"/>
          <a:ext cx="280512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2805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8"/>
          <p:cNvSpPr/>
          <p:nvPr/>
        </p:nvSpPr>
        <p:spPr>
          <a:xfrm flipV="1">
            <a:off x="762120" y="19810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9144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914400" y="3733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914400" y="44197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2"/>
          <p:cNvGraphicFramePr/>
          <p:nvPr/>
        </p:nvGraphicFramePr>
        <p:xfrm>
          <a:off x="4122720" y="3362400"/>
          <a:ext cx="33660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36240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4419720" y="3124080"/>
          <a:ext cx="97776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124080"/>
                    <a:ext cx="977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5181480" y="3352680"/>
          <a:ext cx="33660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35268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5"/>
          <p:cNvGraphicFramePr/>
          <p:nvPr/>
        </p:nvGraphicFramePr>
        <p:xfrm>
          <a:off x="5562720" y="2971800"/>
          <a:ext cx="83808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971800"/>
                    <a:ext cx="838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5410080" y="228600"/>
          <a:ext cx="14194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8600"/>
                    <a:ext cx="14194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762120" y="1371600"/>
          <a:ext cx="280512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371600"/>
                    <a:ext cx="2805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Line 8"/>
          <p:cNvSpPr/>
          <p:nvPr/>
        </p:nvSpPr>
        <p:spPr>
          <a:xfrm flipV="1">
            <a:off x="762120" y="15238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914400" y="22860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838080" y="3200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914400" y="403848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2362320" y="4648320"/>
            <a:ext cx="1371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86200" y="32004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4343400" y="3048120"/>
          <a:ext cx="78120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781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3400" y="304200"/>
            <a:ext cx="498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308560" y="228600"/>
          <a:ext cx="1622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8560" y="228600"/>
                    <a:ext cx="16225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2286000" y="1295280"/>
          <a:ext cx="276876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95280"/>
                    <a:ext cx="2768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3412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1"/>
          <p:cNvGraphicFramePr/>
          <p:nvPr/>
        </p:nvGraphicFramePr>
        <p:xfrm>
          <a:off x="5791320" y="2514600"/>
          <a:ext cx="15238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514600"/>
                    <a:ext cx="15238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2"/>
          <p:cNvSpPr/>
          <p:nvPr/>
        </p:nvSpPr>
        <p:spPr>
          <a:xfrm>
            <a:off x="24382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362320" y="2819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34340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267080" y="2819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733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03:16Z</dcterms:created>
  <dc:creator>Plainview Schools</dc:creator>
  <dc:description/>
  <dc:language>en-US</dc:language>
  <cp:lastModifiedBy>LEGION</cp:lastModifiedBy>
  <dcterms:modified xsi:type="dcterms:W3CDTF">2017-07-06T06:30:20Z</dcterms:modified>
  <cp:revision>26</cp:revision>
  <dc:subject/>
  <dc:title>ADDING REAL NUMBERS</dc:title>
</cp:coreProperties>
</file>